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14.png" ContentType="image/png"/>
  <Override PartName="/ppt/media/image25.png" ContentType="image/png"/>
  <Override PartName="/ppt/media/image29.png" ContentType="image/png"/>
  <Override PartName="/ppt/media/image32.wmf" ContentType="image/x-wmf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2235CAF-F382-430D-9D9E-694154A293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5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NOT PRINT THIS SLIDE FOR CUSTOMER SESSIONS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ete this slide from the deck before print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looks a mess when printed out. If you decide to use this slide, hide the previous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dden slide allows some drilldown into more technical issues, for those clients who want a justification to the statement that “XP delivers return 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766-DDB1-4F5F-9998-B213629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22D-66C4-434A-8AC7-C99E629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9A9-0790-4BE7-B469-82AFCF82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BA1-C379-45F7-A725-613D989B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3A2-EA08-4BED-B7C6-88441D2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D2D-C098-4287-9470-070370A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025-A20B-4016-9CE3-07C3A9FF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6C8-DCC2-4B1D-8360-3444ED6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0E5-0B9A-44AF-92BB-9A7FB23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CB-FEC7-4690-A52D-B9EDCCC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A93-B3FA-4B20-9508-D6AD286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AB1-3E57-4A09-9414-3A505D8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4C8B-CAA6-414B-84BA-641D1F378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31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30.png"/><Relationship Id="rId11" Type="http://schemas.openxmlformats.org/officeDocument/2006/relationships/image" Target="../media/image4.png"/><Relationship Id="rId12" Type="http://schemas.openxmlformats.org/officeDocument/2006/relationships/image" Target="../media/image32.wmf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9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image" Target="../media/image58.png"/><Relationship Id="rId22" Type="http://schemas.openxmlformats.org/officeDocument/2006/relationships/image" Target="../media/image58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penS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1200" y="299736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r, c’est penser à cô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6920" y="3500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61000"/>
            <a:ext cx="201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trick Barantal</a:t>
            </a:r>
            <a:br>
              <a:rPr sz="14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ersion 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ui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14972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11640" y="4365720"/>
            <a:ext cx="4105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316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pie 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4440" y="3471840"/>
            <a:ext cx="8715240" cy="2679840"/>
          </a:xfrm>
          <a:prstGeom prst="roundRect">
            <a:avLst>
              <a:gd name="adj" fmla="val 3093"/>
            </a:avLst>
          </a:prstGeom>
          <a:solidFill>
            <a:srgbClr val="a69ffd"/>
          </a:solidFill>
          <a:ln w="38160">
            <a:solidFill>
              <a:srgbClr val="481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74200">
            <a:off x="9143640" y="4220640"/>
            <a:ext cx="1833480" cy="1505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26153" t="0" r="17309" b="0"/>
          <a:stretch/>
        </p:blipFill>
        <p:spPr>
          <a:xfrm>
            <a:off x="9468000" y="4653000"/>
            <a:ext cx="519120" cy="75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580080" y="3987720"/>
            <a:ext cx="178272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rcRect l="19996" t="31521" r="6710" b="13254"/>
          <a:stretch/>
        </p:blipFill>
        <p:spPr>
          <a:xfrm>
            <a:off x="9144000" y="3429000"/>
            <a:ext cx="155880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8280" y="5891040"/>
            <a:ext cx="17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tation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icro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006800" y="3584520"/>
            <a:ext cx="641520" cy="91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9396360" y="2205000"/>
            <a:ext cx="58284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041480" y="34178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2360" y="4594320"/>
            <a:ext cx="170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Postes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icroGED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consult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922560" y="522288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1835280" y="429264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987480" y="50468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99280" y="-106992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utilisateur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cann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au lieu de l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hotoco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-2048040"/>
            <a:ext cx="23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électronique  arrive dans un doss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ocuments ent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 le po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que 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-2259000"/>
            <a:ext cx="201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’un simple Clic droit de la souris le Document est transféré dans MicroGED et  le document est déplacé dans une </a:t>
            </a: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Zone d’Archiv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-2116080"/>
            <a:ext cx="216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Document devient acces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ut le m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e document original ne sera pas éga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450072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9000"/>
            <a:ext cx="5651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circuit Pap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21387E-006 C -0.06928 0.09249 -0.1382 0.18567 -0.16563 0.22312 E">
                                      <p:cBhvr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9.24855E-007 L 0.00017 0.45156 E">
                                      <p:cBhvr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524 0.10474 C -0.38055 0.12786 -0.42552 0.15098 -0.44357 0.16046 E">
                                      <p:cBhvr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6543 L 3.61111E-006 0.53734 E">
                                      <p:cBhvr>
                                        <p:cTn id="10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952 0.07098 L -0.57952 -0.02336 E">
                                      <p:cBhvr>
                                        <p:cTn id="10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5584 L 0.00382 0.48879 E">
                                      <p:cBhvr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21 -0.14104 C -0.71041 -0.12832 -0.74427 -0.11514 -0.75764 -0.10959 E">
                                      <p:cBhvr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7167 L 0.00798 0.48948 E">
                                      <p:cBhvr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1413000"/>
            <a:ext cx="4578120" cy="4578120"/>
            <a:chOff x="2556000" y="1413000"/>
            <a:chExt cx="4578120" cy="4578120"/>
          </a:xfrm>
        </p:grpSpPr>
        <p:grpSp>
          <p:nvGrpSpPr>
            <p:cNvPr id="107" name="Group 3"/>
            <p:cNvGrpSpPr/>
            <p:nvPr/>
          </p:nvGrpSpPr>
          <p:grpSpPr>
            <a:xfrm>
              <a:off x="2556000" y="1413000"/>
              <a:ext cx="4578120" cy="4578120"/>
              <a:chOff x="2556000" y="1413000"/>
              <a:chExt cx="4578120" cy="4578120"/>
            </a:xfrm>
          </p:grpSpPr>
          <p:pic>
            <p:nvPicPr>
              <p:cNvPr id="108" name="Picture 4" descr="cooltools-shape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1413000"/>
                <a:ext cx="4578120" cy="4578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" name="Group 5"/>
              <p:cNvGrpSpPr/>
              <p:nvPr/>
            </p:nvGrpSpPr>
            <p:grpSpPr>
              <a:xfrm>
                <a:off x="2741400" y="1598400"/>
                <a:ext cx="4189320" cy="4199400"/>
                <a:chOff x="2741400" y="1598400"/>
                <a:chExt cx="4189320" cy="4199400"/>
              </a:xfrm>
            </p:grpSpPr>
            <p:pic>
              <p:nvPicPr>
                <p:cNvPr id="110" name="Picture 6" descr="circ-slice-purple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42720" y="1598400"/>
                  <a:ext cx="1816920" cy="167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irc-slice-red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22200" y="1598400"/>
                  <a:ext cx="1803960" cy="171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8" descr="circle-blue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25440" y="2815200"/>
                  <a:ext cx="1758240" cy="17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9" descr="circ-slice-blue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741400" y="2661480"/>
                  <a:ext cx="1380960" cy="20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0" descr="circ-slice-gold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498280" y="2675160"/>
                  <a:ext cx="1432440" cy="2071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11" descr="circ-slice-green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34800" y="4105080"/>
                  <a:ext cx="1778040" cy="169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12" descr="cir-slice-orang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42720" y="4129920"/>
                  <a:ext cx="1804320" cy="166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7" name="Text Box 26"/>
            <p:cNvSpPr/>
            <p:nvPr/>
          </p:nvSpPr>
          <p:spPr>
            <a:xfrm>
              <a:off x="4055760" y="3327480"/>
              <a:ext cx="1620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Plate-forme</a:t>
              </a:r>
              <a:r>
                <a:rPr b="1" lang="en-US" sz="1600" spc="-1" strike="noStrike">
                  <a:solidFill>
                    <a:srgbClr val="ffffff"/>
                  </a:solidFill>
                  <a:latin typeface="Segoe Semibold"/>
                </a:rPr>
                <a:t>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Papyrus</a:t>
              </a:r>
              <a:r>
                <a:rPr b="0" lang="en-US" sz="1600" spc="-1" strike="noStrike">
                  <a:solidFill>
                    <a:srgbClr val="ffffff"/>
                  </a:solidFill>
                  <a:latin typeface="Segoe Semibold"/>
                </a:rPr>
                <a:t> </a:t>
              </a:r>
              <a:br>
                <a:rPr sz="1600"/>
              </a:br>
              <a:br>
                <a:rPr sz="14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3584160" y="4610520"/>
              <a:ext cx="9655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Produi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évolu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4848120" y="4303080"/>
              <a:ext cx="159480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rch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Tous les type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 de fichi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2681640" y="3325320"/>
              <a:ext cx="14166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Inform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rapidemen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ccessi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466240" y="3285720"/>
              <a:ext cx="150048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nnua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Unifié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 des conta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442680" y="2136960"/>
              <a:ext cx="12657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Orienté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Utilisate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4780440" y="2099160"/>
              <a:ext cx="169848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Facilit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"/>
                  <a:ea typeface="ＭＳ Ｐゴシック"/>
                </a:rPr>
                <a:t>administ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e du prod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application de la Gamme Papyr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 toujours constituée de 2 fich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ichier de l’application : le frontal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ichier des données     : le fichier à sauveg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us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simplicité d’ut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simplicité d’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puissant gestionnaire de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sibilité d’adaptation à tous types d’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’authentification basée sur le login du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ation uniquement des courriers dédiés à u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puissant module de publipo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96000" y="4221000"/>
            <a:ext cx="2665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suffit de sauvegarder uniquement le fichier DATA_Papyrus.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poste auto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196640"/>
            <a:ext cx="82789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1706400" cy="1728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19640" y="1989000"/>
            <a:ext cx="51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 mono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ichier de l’application: Papyrus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ichier des données :Data-Papyrus.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t présents sur la mêm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08640"/>
            <a:ext cx="1584360" cy="64908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279440" cy="6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547640" y="2997360"/>
            <a:ext cx="1314720" cy="1639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627280" y="3789360"/>
            <a:ext cx="674640" cy="67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987640" y="4221000"/>
            <a:ext cx="6793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 -0.38266 C -0.69253 -0.38405 -0.68507 -0.38451 -0.67778 -0.38705 C -0.66788 -0.39052 -0.66128 -0.40116 -0.65087 -0.40393 C -0.64705 -0.40717 -0.64062 -0.41225 -0.63819 -0.41665 C -0.63698 -0.41896 -0.63767 -0.42266 -0.63646 -0.42497 C -0.6335 -0.43052 -0.62673 -0.43422 -0.62222 -0.43561 C -0.61996 -0.44439 -0.61458 -0.45827 -0.60798 -0.46312 C -0.60555 -0.46497 -0.60278 -0.46451 -0.60017 -0.4652 C -0.59097 -0.47422 -0.5809 -0.48254 -0.56996 -0.48624 C -0.55347 -0.48555 -0.5368 -0.4874 -0.52066 -0.48416 C -0.5184 -0.4837 -0.5184 -0.47884 -0.51753 -0.47584 C -0.51475 -0.46566 -0.51423 -0.45549 -0.50972 -0.44624 C -0.50903 -0.43769 -0.50868 -0.42936 -0.50798 -0.42081 C -0.50712 -0.40948 -0.50486 -0.38705 -0.50486 -0.38705 C -0.50538 -0.37919 -0.50208 -0.33965 -0.51423 -0.3341 C -0.51805 -0.32439 -0.521 -0.32185 -0.52708 -0.31514 C -0.53437 -0.30705 -0.53264 -0.3015 -0.54288 -0.29827 C -0.54948 -0.28925 -0.55312 -0.2904 -0.56198 -0.28763 C -0.56302 -0.28486 -0.56302 -0.28046 -0.56528 -0.27908 C -0.57413 -0.27353 -0.60156 -0.28046 -0.6066 -0.28116 C -0.60798 -0.28462 -0.60885 -0.28879 -0.61111 -0.29179 C -0.61232 -0.29341 -0.61458 -0.29272 -0.61597 -0.29387 C -0.61719 -0.29503 -0.61805 -0.29688 -0.6191 -0.29827 C -0.62118 -0.30636 -0.62465 -0.31329 -0.62708 -0.32139 C -0.6283 -0.33064 -0.63264 -0.35468 -0.62708 -0.36578 C -0.62621 -0.36763 -0.62378 -0.36717 -0.62222 -0.36786 C -0.61597 -0.37434 -0.6125 -0.37803 -0.60486 -0.38058 C -0.59357 -0.39098 -0.59878 -0.38682 -0.58906 -0.39329 C -0.53437 -0.3926 -0.48003 -0.3926 -0.42552 -0.39121 C -0.40694 -0.39075 -0.39219 -0.3741 -0.37465 -0.36994 C -0.37048 -0.36647 -0.36666 -0.36162 -0.36198 -0.35954 C -0.34375 -0.35144 -0.32448 -0.35445 -0.30642 -0.34474 C -0.30469 -0.3348 -0.30399 -0.33087 -0.29844 -0.32347 C -0.29583 -0.31191 -0.29531 -0.30451 -0.28889 -0.29595 C -0.28715 -0.28902 -0.28437 -0.28393 -0.28264 -0.27699 C -0.28854 -0.26358 -0.28732 -0.2511 -0.29375 -0.23908 C -0.29653 -0.22497 -0.29305 -0.23468 -0.30173 -0.22451 C -0.31892 -0.20277 -0.32725 -0.18358 -0.35087 -0.17341 C -0.35937 -0.15815 -0.3651 -0.15653 -0.37934 -0.15445 C -0.41267 -0.13457 -0.45416 -0.14566 -0.48889 -0.14798 C -0.49548 -0.15237 -0.49844 -0.15329 -0.50312 -0.16277 C -0.50434 -0.16532 -0.50382 -0.16879 -0.50486 -0.17133 C -0.50712 -0.17642 -0.51041 -0.17942 -0.51267 -0.18405 C -0.52066 -0.2289 -0.53837 -0.29526 -0.50798 -0.32555 C -0.50607 -0.34312 -0.49878 -0.35422 -0.48889 -0.36578 C -0.48663 -0.36832 -0.48524 -0.37202 -0.48264 -0.37434 C -0.47864 -0.3778 -0.47396 -0.37942 -0.46979 -0.38266 C -0.4566 -0.39306 -0.46979 -0.38659 -0.45885 -0.39121 C -0.44427 -0.40509 -0.43802 -0.40601 -0.41927 -0.41017 C -0.3684 -0.40879 -0.31857 -0.4074 -0.26823 -0.40185 C -0.25729 -0.38682 -0.2585 -0.37988 -0.24132 -0.37225 C -0.23524 -0.3637 -0.24028 -0.36277 -0.23021 -0.35954 C -0.22656 -0.34474 -0.23021 -0.34821 -0.22222 -0.34474 C -0.22048 -0.33503 -0.22014 -0.32902 -0.21267 -0.32555 C -0.20694 -0.31283 -0.20451 -0.30335 -0.19548 -0.29387 C -0.19323 -0.27584 -0.18767 -0.2689 -0.17795 -0.25595 C -0.17153 -0.23607 -0.16562 -0.22243 -0.15399 -0.20717 C -0.15104 -0.17249 -0.1335 -0.14381 -0.12083 -0.11422 C -0.11823 -0.10867 -0.11597 -0.10335 -0.11441 -0.09734 C -0.11076 -0.08416 -0.10486 -0.05711 -0.10486 -0.05711 C -0.10642 -0.00393 -0.09618 0.00185 -0.12535 0.00832 C -0.18316 0.00671 -0.24028 0.03353 -0.28576 -0.01064 C -0.29583 -0.03329 -0.29687 -0.06104 -0.30017 -0.08671 C -0.29913 -0.12208 -0.30121 -0.15699 -0.29219 -0.19029 C -0.28785 -0.22566 -0.26441 -0.24301 -0.23975 -0.24948 C -0.23281 -0.25434 -0.22691 -0.26289 -0.2191 -0.26636 C -0.21267 -0.26913 -0.2 -0.27491 -0.2 -0.27491 C -0.19149 -0.27422 -0.18316 -0.27399 -0.17465 -0.27283 C -0.16562 -0.27168 -0.1592 -0.26381 -0.15104 -0.26012 C -0.14149 -0.25156 -0.13055 -0.24555 -0.12239 -0.23468 C -0.12031 -0.23191 -0.11875 -0.22821 -0.11597 -0.22636 C -0.11302 -0.22451 -0.10955 -0.22497 -0.10642 -0.22451 C -0.10035 -0.21873 -0.09462 -0.21087 -0.08732 -0.20717 C -0.08385 -0.20254 -0.07986 -0.19861 -0.07778 -0.19237 C -0.07708 -0.19006 -0.0776 -0.18636 -0.07639 -0.18405 C -0.07482 -0.18058 -0.07153 -0.17873 -0.06979 -0.17549 C -0.05781 -0.15329 -0.06979 -0.16694 -0.05729 -0.15445 C -0.05573 -0.1415 -0.05521 -0.13526 -0.0493 -0.12486 C -0.04878 -0.12277 -0.04861 -0.12023 -0.04774 -0.11838 C -0.04583 -0.11514 -0.04271 -0.11353 -0.04132 -0.11006 C -0.03107 -0.08254 -0.05 -0.11075 -0.03333 -0.08879 C -0.03125 -0.07445 -0.02673 -0.06543 -0.0191 -0.05503 C -0.0151 -0.03931 -0.01823 -0.03746 -0.00486 -0.03399 C 0.00278 -0.02381 1.94444E-006 -0.01572 1.94444E-006 8.09249E-007 E"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50920" y="981000"/>
            <a:ext cx="30258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141720"/>
            <a:ext cx="1368360" cy="576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n rés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64360" y="3284640"/>
            <a:ext cx="1279440" cy="652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940360" y="2997360"/>
            <a:ext cx="647640" cy="792000"/>
          </a:xfrm>
          <a:prstGeom prst="flowChartMagneticDisk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23640" y="5013360"/>
            <a:ext cx="144360" cy="433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679680" cy="986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72360" y="4005360"/>
            <a:ext cx="2342880" cy="19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onné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à sauvega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 plus de vos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 ou les fich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-Papyrus.m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5373720"/>
            <a:ext cx="2305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que poste client possède le fichier Ap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pyrus.m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21300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ents Papy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973080" cy="98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619280" y="3500280"/>
            <a:ext cx="973080" cy="986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 rot="21585000">
            <a:off x="2049480" y="2416320"/>
            <a:ext cx="3168720" cy="156960"/>
          </a:xfrm>
          <a:prstGeom prst="leftRightArrow">
            <a:avLst>
              <a:gd name="adj1" fmla="val 53843"/>
              <a:gd name="adj2" fmla="val 140662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8088000"/>
          </a:gradFill>
          <a:ln w="12600">
            <a:solidFill>
              <a:srgbClr val="009999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 rot="20249400">
            <a:off x="2769840" y="3359160"/>
            <a:ext cx="2630520" cy="182880"/>
          </a:xfrm>
          <a:prstGeom prst="leftRightArrow">
            <a:avLst>
              <a:gd name="adj1" fmla="val 53843"/>
              <a:gd name="adj2" fmla="val 100221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6750000"/>
          </a:gradFill>
          <a:ln w="12600">
            <a:solidFill>
              <a:srgbClr val="009999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184464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ur de donn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340000" y="4005360"/>
            <a:ext cx="679320" cy="98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547640" y="2205000"/>
            <a:ext cx="48744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771640" y="4508640"/>
            <a:ext cx="48744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148360" y="1268280"/>
            <a:ext cx="1385640" cy="172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6227640" y="2421000"/>
            <a:ext cx="798480" cy="93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6300720" y="1197000"/>
            <a:ext cx="716040" cy="851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79640" y="1197000"/>
            <a:ext cx="30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ache d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 premier lancement de l’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11640" y="3860640"/>
            <a:ext cx="1657080" cy="1281960"/>
            <a:chOff x="4211640" y="3860640"/>
            <a:chExt cx="1657080" cy="1281960"/>
          </a:xfrm>
        </p:grpSpPr>
        <p:pic>
          <p:nvPicPr>
            <p:cNvPr id="164" name="" descr=""/>
            <p:cNvPicPr/>
            <p:nvPr/>
          </p:nvPicPr>
          <p:blipFill>
            <a:blip r:embed="rId13"/>
            <a:srcRect l="0" t="5226" r="0" b="6088"/>
            <a:stretch/>
          </p:blipFill>
          <p:spPr>
            <a:xfrm>
              <a:off x="4213440" y="3860640"/>
              <a:ext cx="1542600" cy="10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11640" y="474408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uméris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 ’accès sécurisé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ctivant l’accès sécurisé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que utilisateur, est associé un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943600"/>
            <a:ext cx="6782040" cy="38088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203120" cy="99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471920" y="3402000"/>
            <a:ext cx="1192320" cy="95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911320" y="4092480"/>
            <a:ext cx="1185840" cy="949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339920" y="4648320"/>
            <a:ext cx="1197000" cy="949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42703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3551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92440" y="30132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pervi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3720" y="2349360"/>
            <a:ext cx="20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 ’accès sécurisé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ctivant l’accès sécurisé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que utilisateur, est associé un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229360"/>
            <a:ext cx="4191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est l’administrate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 est habilité à créer les utilisateurs et leur affecter un 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943600"/>
            <a:ext cx="6782040" cy="38088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74280" y="1914120"/>
            <a:ext cx="6979680" cy="4137840"/>
            <a:chOff x="674280" y="1914120"/>
            <a:chExt cx="6979680" cy="413784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rcRect l="13357" t="0" r="0" b="12351"/>
            <a:stretch/>
          </p:blipFill>
          <p:spPr>
            <a:xfrm rot="190200">
              <a:off x="773280" y="2098440"/>
              <a:ext cx="6781680" cy="37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038280" y="2684160"/>
              <a:ext cx="120384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471200" y="3402360"/>
              <a:ext cx="1192320" cy="95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2911320" y="4092480"/>
              <a:ext cx="118620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1339560" y="4647960"/>
              <a:ext cx="119808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304920" y="42703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8000" y="3551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tilis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92440" y="30132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pervi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2349360"/>
            <a:ext cx="20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08000" y="5157720"/>
            <a:ext cx="6454800" cy="792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4 profils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413000"/>
            <a:ext cx="80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1628640"/>
            <a:ext cx="7962840" cy="1008000"/>
            <a:chOff x="684360" y="1628640"/>
            <a:chExt cx="7962840" cy="100800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684360" y="1931760"/>
              <a:ext cx="796284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32560" y="2095560"/>
              <a:ext cx="4612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dministrateur possède tous les dro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814680" y="1628640"/>
              <a:ext cx="39204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7632720" cy="71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7344000" cy="692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1692360" y="4006800"/>
            <a:ext cx="558720" cy="83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2197080" y="5229360"/>
            <a:ext cx="603360" cy="819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6360" y="5445000"/>
            <a:ext cx="5400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onsultation : ne peut que visualiser les cou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306864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e superviseur possède tous les droits sauf l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suppression d‘un cou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221000"/>
            <a:ext cx="5977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’utilisateur :  opérateur de saisie, ne peut créer les entrées dans les fichiers an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702400" y="907920"/>
            <a:ext cx="2647800" cy="4146840"/>
          </a:xfrm>
          <a:custGeom>
            <a:avLst/>
            <a:gdLst/>
            <a:ahLst/>
            <a:rect l="l" t="t" r="r" b="b"/>
            <a:pathLst>
              <a:path w="1668" h="2612">
                <a:moveTo>
                  <a:pt x="0" y="1388"/>
                </a:moveTo>
                <a:lnTo>
                  <a:pt x="1560" y="2610"/>
                </a:lnTo>
                <a:lnTo>
                  <a:pt x="1664" y="2612"/>
                </a:lnTo>
                <a:lnTo>
                  <a:pt x="1668" y="0"/>
                </a:lnTo>
                <a:lnTo>
                  <a:pt x="1582" y="0"/>
                </a:lnTo>
              </a:path>
            </a:pathLst>
          </a:cu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66cc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95880" y="1042920"/>
            <a:ext cx="3009960" cy="157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899320" y="184932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1160" y="2749680"/>
            <a:ext cx="3009960" cy="1571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95240" y="930240"/>
            <a:ext cx="2659320" cy="4110120"/>
          </a:xfrm>
          <a:custGeom>
            <a:avLst/>
            <a:gdLst/>
            <a:ahLst/>
            <a:rect l="l" t="t" r="r" b="b"/>
            <a:pathLst>
              <a:path w="1675" h="2589">
                <a:moveTo>
                  <a:pt x="1675" y="1382"/>
                </a:moveTo>
                <a:lnTo>
                  <a:pt x="135" y="2589"/>
                </a:lnTo>
                <a:lnTo>
                  <a:pt x="12" y="2583"/>
                </a:lnTo>
                <a:lnTo>
                  <a:pt x="0" y="3"/>
                </a:lnTo>
                <a:lnTo>
                  <a:pt x="96" y="0"/>
                </a:lnTo>
              </a:path>
            </a:pathLst>
          </a:cu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66cc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54160" y="103500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4160" y="1887480"/>
            <a:ext cx="30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254160" y="2728800"/>
            <a:ext cx="300960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6640" y="457200"/>
            <a:ext cx="7407360" cy="6072120"/>
          </a:xfrm>
          <a:prstGeom prst="rect">
            <a:avLst/>
          </a:prstGeom>
          <a:noFill/>
          <a:ln cap="rnd" w="28440">
            <a:solidFill>
              <a:srgbClr val="ffffff">
                <a:alpha val="67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69880" y="4854600"/>
            <a:ext cx="62931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179"/>
                </a:solidFill>
                <a:latin typeface="Arial"/>
                <a:ea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179"/>
                </a:solidFill>
                <a:latin typeface="Arial"/>
                <a:ea typeface="Arial"/>
              </a:rPr>
              <a:t>La solution cou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5200" y="1582560"/>
            <a:ext cx="1885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c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7800" y="2428920"/>
            <a:ext cx="1886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7800" y="3274920"/>
            <a:ext cx="23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form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07120" y="1582560"/>
            <a:ext cx="2139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15160" y="2428920"/>
            <a:ext cx="2431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apt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3213000"/>
            <a:ext cx="2513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ort Minimis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14480" y="3492360"/>
            <a:ext cx="3362040" cy="1756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5940360" y="3500280"/>
            <a:ext cx="2995560" cy="156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47800" y="4122720"/>
            <a:ext cx="2502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olu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4840" y="4122720"/>
            <a:ext cx="2292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écur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48000" y="836640"/>
            <a:ext cx="33098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Fac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52108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19640" y="907920"/>
            <a:ext cx="30924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Productiv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9640" y="907920"/>
            <a:ext cx="39481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419640" y="836640"/>
            <a:ext cx="46083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volutiv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19640" y="836640"/>
            <a:ext cx="25146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Fiab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252108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419640" y="836640"/>
            <a:ext cx="37209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Adaptabil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48000" y="692280"/>
            <a:ext cx="39355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Support Minimis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2523960" y="735120"/>
            <a:ext cx="828720" cy="847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48000" y="907920"/>
            <a:ext cx="38512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Sécurit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2273400"/>
            <a:ext cx="31780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 sim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 pu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igation en 3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2276640"/>
            <a:ext cx="30240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it les processus classiques de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age p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2276640"/>
            <a:ext cx="301140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éprouv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issance da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2276640"/>
            <a:ext cx="308448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e nouve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sion pa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ntée des uti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2276640"/>
            <a:ext cx="30132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é sur 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’infor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 modifie pas les documents ex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2276640"/>
            <a:ext cx="250344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é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2637000"/>
            <a:ext cx="25034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sa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276640"/>
            <a:ext cx="25034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éritage d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miss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ès sécurisé aux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155080" y="458640"/>
            <a:ext cx="925560" cy="5103720"/>
            <a:chOff x="8155080" y="458640"/>
            <a:chExt cx="925560" cy="5103720"/>
          </a:xfrm>
        </p:grpSpPr>
        <p:pic>
          <p:nvPicPr>
            <p:cNvPr id="251" name="" descr=""/>
            <p:cNvPicPr/>
            <p:nvPr/>
          </p:nvPicPr>
          <p:blipFill>
            <a:blip r:embed="rId18">
              <a:lum bright="-18000"/>
            </a:blip>
            <a:stretch/>
          </p:blipFill>
          <p:spPr>
            <a:xfrm>
              <a:off x="8155080" y="458640"/>
              <a:ext cx="925560" cy="51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5400000">
              <a:off x="7471080" y="293760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6320" y="457200"/>
            <a:ext cx="925200" cy="5105160"/>
            <a:chOff x="76320" y="457200"/>
            <a:chExt cx="925200" cy="5105160"/>
          </a:xfrm>
        </p:grpSpPr>
        <p:pic>
          <p:nvPicPr>
            <p:cNvPr id="254" name="" descr=""/>
            <p:cNvPicPr/>
            <p:nvPr/>
          </p:nvPicPr>
          <p:blipFill>
            <a:blip r:embed="rId19">
              <a:lum bright="-18000"/>
            </a:blip>
            <a:stretch/>
          </p:blipFill>
          <p:spPr>
            <a:xfrm>
              <a:off x="76320" y="457200"/>
              <a:ext cx="92520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16200000">
              <a:off x="-304560" y="279288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sate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20"/>
          <a:stretch/>
        </p:blipFill>
        <p:spPr>
          <a:xfrm>
            <a:off x="3059280" y="2421000"/>
            <a:ext cx="3528720" cy="1352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050920" y="189000"/>
            <a:ext cx="518508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tour des Utilisateurs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35280" y="189000"/>
            <a:ext cx="517212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tour des Administrateurs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tilisateurs-Administ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06837E-007 L -0.36458 0.10151 E">
                                      <p:cBhvr>
                                        <p:cTn id="296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-0.13871 0.1015 E">
                                      <p:cBhvr>
                                        <p:cTn id="29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3837 0.21089 E">
                                      <p:cBhvr>
                                        <p:cTn id="343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06837E-007 L -0.31649 0.22387 E">
                                      <p:cBhvr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06837E-007 L -0.37049 0.36408 E">
                                      <p:cBhvr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0313 0.36917 E">
                                      <p:cBhvr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0.01827 L -0.37795 0.48278 E">
                                      <p:cBhvr>
                                        <p:cTn id="437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71147E-006 L -0.10816 0.46025 E">
                                      <p:cBhvr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06837E-007 L 0.3125 0.09687 E">
                                      <p:cBhvr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50417 0.0927 E">
                                      <p:cBhvr>
                                        <p:cTn id="496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407 0.21645 E">
                                      <p:cBhvr>
                                        <p:cTn id="54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50174 0.20347 E">
                                      <p:cBhvr>
                                        <p:cTn id="54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6837E-007 L 0.22778 0.33395 E">
                                      <p:cBhvr>
                                        <p:cTn id="587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71147E-006 L 0.47709 0.33024 E"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L 0.46718 0.46898 E">
                                      <p:cBhvr>
                                        <p:cTn id="63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c0179"/>
                </a:solidFill>
                <a:latin typeface="Arial"/>
              </a:rPr>
              <a:t>Micro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6720" cy="105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771640" y="1700280"/>
            <a:ext cx="4324320" cy="20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396360" y="0"/>
            <a:ext cx="41148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91 -0.02292 C -0.3342 -0.02176 -0.44409 -0.01852 -0.5552 -0.01644 C -0.56545 -0.01574 -0.57569 -0.01551 -0.58593 -0.01435 C -0.58819 -0.01412 -0.59027 -0.01273 -0.59236 -0.01227 C -0.5993 -0.01065 -0.61336 -0.00787 -0.61336 -0.00764 C -0.62864 -0.00116 -0.64982 -0.00232 -0.66493 -0.00139 C -0.69375 0.00393 -0.72152 0.01504 -0.74878 0.0287 C -0.75746 0.0331 -0.76406 0.04004 -0.77291 0.04375 C -0.78055 0.05069 -0.78975 0.05208 -0.79722 0.05879 C -0.81232 0.07222 -0.82708 0.08611 -0.84079 0.10185 C -0.84288 0.10416 -0.84548 0.10578 -0.84722 0.10833 C -0.86041 0.12778 -0.86718 0.15139 -0.87777 0.17268 C -0.8809 0.18889 -0.88663 0.2044 -0.89079 0.22014 C -0.89652 0.2412 -0.89913 0.26389 -0.9052 0.28449 C -0.90954 0.32083 -0.91857 0.35578 -0.92291 0.3919 C -0.92447 0.47546 -0.92586 0.48472 -0.92291 0.56643 C -0.92257 0.57407 -0.921 0.57291 -0.91649 0.575 C -0.90972 0.58889 -0.8967 0.59699 -0.88593 0.60509 C -0.85816 0.62616 -0.82517 0.63148 -0.79392 0.63727 C -0.78263 0.63657 -0.77135 0.63634 -0.76007 0.63518 C -0.74809 0.63379 -0.74027 0.61944 -0.73107 0.61157 C -0.73003 0.60949 -0.72777 0.60509 -0.72777 0.60532 E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518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avantages de 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118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59400" y="275904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275904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54080" y="275904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12040" y="1265040"/>
            <a:ext cx="6437160" cy="1387800"/>
            <a:chOff x="1112040" y="1265040"/>
            <a:chExt cx="6437160" cy="1387800"/>
          </a:xfrm>
        </p:grpSpPr>
        <p:sp>
          <p:nvSpPr>
            <p:cNvPr id="267" name=""/>
            <p:cNvSpPr/>
            <p:nvPr/>
          </p:nvSpPr>
          <p:spPr>
            <a:xfrm rot="3418800">
              <a:off x="1322640" y="148968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360" y="1661760"/>
              <a:ext cx="931680" cy="131760"/>
              <a:chOff x="2286360" y="1661760"/>
              <a:chExt cx="931680" cy="131760"/>
            </a:xfrm>
          </p:grpSpPr>
          <p:sp>
            <p:nvSpPr>
              <p:cNvPr id="269" name=""/>
              <p:cNvSpPr/>
              <p:nvPr/>
            </p:nvSpPr>
            <p:spPr>
              <a:xfrm>
                <a:off x="228636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564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7692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5288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3418800">
              <a:off x="304380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007880" y="1661760"/>
              <a:ext cx="931680" cy="131760"/>
              <a:chOff x="4007880" y="1661760"/>
              <a:chExt cx="931680" cy="131760"/>
            </a:xfrm>
          </p:grpSpPr>
          <p:sp>
            <p:nvSpPr>
              <p:cNvPr id="275" name=""/>
              <p:cNvSpPr/>
              <p:nvPr/>
            </p:nvSpPr>
            <p:spPr>
              <a:xfrm>
                <a:off x="4007880" y="166176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97160" y="166284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98440" y="166392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4400" y="170496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rot="3418800">
              <a:off x="469332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729040" y="1661760"/>
              <a:ext cx="1218240" cy="131760"/>
              <a:chOff x="5729040" y="1661760"/>
              <a:chExt cx="1218240" cy="131760"/>
            </a:xfrm>
          </p:grpSpPr>
          <p:sp>
            <p:nvSpPr>
              <p:cNvPr id="281" name=""/>
              <p:cNvSpPr/>
              <p:nvPr/>
            </p:nvSpPr>
            <p:spPr>
              <a:xfrm>
                <a:off x="5729040" y="166176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45680" y="166284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62600" y="166392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61960" y="170496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rot="3418800">
              <a:off x="6414480" y="14238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333440" y="1700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0720" y="1700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pid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5080" y="17002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ç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7800" y="1700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306396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interface t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v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u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068640"/>
            <a:ext cx="16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tâ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d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068640"/>
            <a:ext cx="14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u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 u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99736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fa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vi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rou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é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 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859280" y="5002200"/>
            <a:ext cx="4087800" cy="1855440"/>
            <a:chOff x="4859280" y="5002200"/>
            <a:chExt cx="4087800" cy="1855440"/>
          </a:xfrm>
        </p:grpSpPr>
        <p:cxnSp>
          <p:nvCxnSpPr>
            <p:cNvPr id="295" name=""/>
            <p:cNvCxnSpPr/>
            <p:nvPr/>
          </p:nvCxnSpPr>
          <p:spPr>
            <a:xfrm flipV="1">
              <a:off x="6814800" y="6078240"/>
              <a:ext cx="951480" cy="342000"/>
            </a:xfrm>
            <a:prstGeom prst="bentConnector3">
              <a:avLst>
                <a:gd name="adj1" fmla="val 49886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7632720" y="5002200"/>
              <a:ext cx="131436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4859280" y="5141880"/>
              <a:ext cx="2289240" cy="1715760"/>
              <a:chOff x="4859280" y="5141880"/>
              <a:chExt cx="2289240" cy="1715760"/>
            </a:xfrm>
          </p:grpSpPr>
          <p:pic>
            <p:nvPicPr>
              <p:cNvPr id="2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280" y="5141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0000" y="551988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27200" y="5882760"/>
                <a:ext cx="1021320" cy="97488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301" name=""/>
            <p:cNvCxnSpPr/>
            <p:nvPr/>
          </p:nvCxnSpPr>
          <p:spPr>
            <a:xfrm>
              <a:off x="5879880" y="5351760"/>
              <a:ext cx="1797840" cy="235440"/>
            </a:xfrm>
            <a:prstGeom prst="bentConnector3">
              <a:avLst>
                <a:gd name="adj1" fmla="val 49989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>
              <a:off x="6387840" y="5720040"/>
              <a:ext cx="1377000" cy="1800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1280" y="27432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te graphique Papy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052640" y="1600200"/>
            <a:ext cx="70372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4000" y="907920"/>
            <a:ext cx="20872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une zone déroulante sur fond jaune indique qu’il est possible d’accéder au détail de la fiche par un simple double c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1280" y="134136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2060640"/>
            <a:ext cx="1411200" cy="10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lèche Bleue permet d’ajouter un élément n’existant pas dans la l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58000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24360" y="4292640"/>
            <a:ext cx="1800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fond bleu indique en champ verrouillé, son contenu est mis à jour depuis un autre formul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579640" y="3860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le logic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 maintena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e démonst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ut mieu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 de longs dis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0360" y="2830320"/>
            <a:ext cx="41767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0578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rquoi Papyru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yrus est un logiciel mét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été conçu dès sa création ( 1997 ) pour assurer la parfaite gestion des courr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reprend les mécanismes classiques dans la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bannettes du courrier Arrivée et dépa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bannettes de distribution aux utilis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ssure la gestion automatique d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uméro Ch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nt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hier Chrono rempli à la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évoluée sous Excel qui atteint vite ses limites dans 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lace d’un répertoire réseau pro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tte gestion atteint vite se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uver un courrier n’est pas intuit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seule la personne qui a classé le document sait le retrou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gestion des répertoires n’est pas hom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s documents sont enregistrés plusieurs fois dans des répertoires diffé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s documents « sensibles » sont accessibles à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c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uver un document hyper rapide et hyper simple (un document parmi 100.000 en 2 second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 les répertoires et sous répertoires : un seul répertoire d’archi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ses sécurités des documents conser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profils utilisateu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eur, superviseur, user,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document n’est pas modifié il reste dans son état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original est conservé ne circule que la copie électronique du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as d’absence le courrier est accessible à t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058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yrus est un produit évolu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486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bénéficie d’une mise à jour par 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où la nécessité du contrat d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tte mise à jour, c’est la concrétis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remontées et des remarques utilisat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questionne et on écoute no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ation d’un club d’utilisa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intègre les dernières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égration de la recherche Plein Tex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de formation en ligne au format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yrus est bâti sur des standards de l’informatiqu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612468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et enjeux de Papy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2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r la gestion du cou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ondre aux exigences de la 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raintes règlementair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i N°2000-321 du 12 avril 2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garantie des délais de réponse et d’accusés de réc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le courrier entrant / s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egistrer les courriers entrants et sorta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ourrier papier, courriel,f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blir un lien entre courrier  «  arrivé » et courrier « dépar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r l’archivage et la recherche d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riser le travail collabor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1197000"/>
            <a:ext cx="23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4475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interface Intu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yrus Micro courrier est simple d’utilisation : tout dans un éc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263700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99736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8510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faite gestion des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1844640"/>
            <a:ext cx="4356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bouton sur la plate forme multifonction envoie le document sur votre poste de travail dans un répertoi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ocuments_ent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imple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lic droit de la souris et vous classez ce document qui sera déplacé dans votre répertoire d’archiv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3168720" cy="301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rot="13896600">
            <a:off x="217440" y="2958840"/>
            <a:ext cx="1293840" cy="5061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628640"/>
            <a:ext cx="41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yrus permet de rapatrier les documents à partir d’un répertoir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3:18:58Z</dcterms:created>
  <dc:creator>JolyJP</dc:creator>
  <dc:description/>
  <dc:language>en-US</dc:language>
  <cp:lastModifiedBy>Patrick</cp:lastModifiedBy>
  <dcterms:modified xsi:type="dcterms:W3CDTF">2009-05-31T20:46:46Z</dcterms:modified>
  <cp:revision>49</cp:revision>
  <dc:subject/>
  <dc:title>GESTION DU COURRIER</dc:title>
</cp:coreProperties>
</file>