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1E11-F69D-4CC4-A4D0-046EE742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889F-2334-463D-91B0-45214869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F57C-4092-441D-9E87-98FC5C36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AC33-7CBA-404E-862E-9370C57B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D91C-803A-4943-A438-A50B59DF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B75D-9F65-45AB-B1E5-C59AB63A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97F2-EBE2-449F-AA65-77D2AB45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1594-8EF9-4B6E-AC52-5FC0A5E8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4E14-5925-49CD-95B9-BE196413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7C15-99DD-445F-9547-7A76FCB4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BA44-EF6F-47C5-96EF-BA9BAED2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1EE8-434D-472A-AE3F-17509FCA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06FB-7C15-466F-A28C-9740FC49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B05E-717D-4B58-AE18-9C79DEAC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5333-1F5E-405E-919F-0DE6EA70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3EDB-3E1A-436D-B50F-F4B5F04D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D59D-DE3F-4D11-BE4B-DE52254A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4728-5651-4184-BA2A-25A92E4B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475F-7A7D-457E-ACFE-D4604D2E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23A6-7F28-4758-A841-78E95DBE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FD47-8BF9-4982-9C45-8002D2A0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05FA-6B32-480B-B8A4-D77C11DB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4C7E-70A0-4758-B5AC-9963693A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9409-105F-4140-B4E3-081AE27E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30C0-1755-4523-8B8A-4D9326A56ABA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F70B-F91C-4FE2-8208-3CC93BB25A13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184428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rebuchet MS"/>
              </a:rPr>
              <a:t>Gestion des projets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Trebuchet MS"/>
              </a:rPr>
              <a:t>ou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Trebuchet MS"/>
              </a:rPr>
              <a:t>Délibéra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9280" cy="11764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5056200" y="5002200"/>
            <a:ext cx="4087800" cy="1855440"/>
            <a:chOff x="5056200" y="5002200"/>
            <a:chExt cx="4087800" cy="1855440"/>
          </a:xfrm>
        </p:grpSpPr>
        <p:cxnSp>
          <p:nvCxnSpPr>
            <p:cNvPr id="85" name=""/>
            <p:cNvCxnSpPr/>
            <p:nvPr/>
          </p:nvCxnSpPr>
          <p:spPr>
            <a:xfrm flipV="1">
              <a:off x="7011720" y="6078240"/>
              <a:ext cx="951480" cy="342000"/>
            </a:xfrm>
            <a:prstGeom prst="bentConnector3">
              <a:avLst>
                <a:gd name="adj1" fmla="val 49886"/>
              </a:avLst>
            </a:prstGeom>
            <a:ln w="381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</p:cxnSp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7829640" y="5002200"/>
              <a:ext cx="1314360" cy="164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" name=""/>
            <p:cNvGrpSpPr/>
            <p:nvPr/>
          </p:nvGrpSpPr>
          <p:grpSpPr>
            <a:xfrm>
              <a:off x="5056200" y="5141880"/>
              <a:ext cx="2289240" cy="1715760"/>
              <a:chOff x="5056200" y="5141880"/>
              <a:chExt cx="2289240" cy="1715760"/>
            </a:xfrm>
          </p:grpSpPr>
          <p:pic>
            <p:nvPicPr>
              <p:cNvPr id="8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056200" y="5141880"/>
                <a:ext cx="1021320" cy="97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686920" y="5519880"/>
                <a:ext cx="1021320" cy="97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324120" y="5882760"/>
                <a:ext cx="1021320" cy="974880"/>
              </a:xfrm>
              <a:prstGeom prst="rect">
                <a:avLst/>
              </a:prstGeom>
              <a:ln w="0">
                <a:noFill/>
              </a:ln>
            </p:spPr>
          </p:pic>
        </p:grpSp>
        <p:cxnSp>
          <p:nvCxnSpPr>
            <p:cNvPr id="91" name=""/>
            <p:cNvCxnSpPr/>
            <p:nvPr/>
          </p:nvCxnSpPr>
          <p:spPr>
            <a:xfrm>
              <a:off x="6076800" y="5351760"/>
              <a:ext cx="1797840" cy="235440"/>
            </a:xfrm>
            <a:prstGeom prst="bentConnector3">
              <a:avLst>
                <a:gd name="adj1" fmla="val 49989"/>
              </a:avLst>
            </a:prstGeom>
            <a:ln w="381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2" name=""/>
            <p:cNvCxnSpPr/>
            <p:nvPr/>
          </p:nvCxnSpPr>
          <p:spPr>
            <a:xfrm>
              <a:off x="6584760" y="5720040"/>
              <a:ext cx="1377000" cy="180000"/>
            </a:xfrm>
            <a:prstGeom prst="bentConnector3">
              <a:avLst>
                <a:gd name="adj1" fmla="val 49921"/>
              </a:avLst>
            </a:prstGeom>
            <a:ln w="381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</p:cxnSp>
      </p:grpSp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179280" y="4581360"/>
            <a:ext cx="410544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53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rebuchet MS"/>
              </a:rPr>
              <a:t>Gestion des projets de loi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rebuchet MS"/>
              </a:rPr>
              <a:t>ou délibéra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981080"/>
            <a:ext cx="5410080" cy="584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 Présentation du cyc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2895480"/>
            <a:ext cx="5410080" cy="6048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 Déroulement des opé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3809880"/>
            <a:ext cx="5410080" cy="62712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3. Les apports du logiciel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4724280"/>
            <a:ext cx="5410080" cy="6494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4. Conclus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55640" y="2599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rebuchet MS"/>
              </a:rPr>
              <a:t>Cycle de vie d’un proje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"/>
          <p:cNvSpPr/>
          <p:nvPr/>
        </p:nvSpPr>
        <p:spPr>
          <a:xfrm rot="20241600">
            <a:off x="1077480" y="23094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eaeaf4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35280" y="1341360"/>
            <a:ext cx="1873440" cy="1656000"/>
          </a:xfrm>
          <a:prstGeom prst="ellipse">
            <a:avLst/>
          </a:prstGeom>
          <a:gradFill rotWithShape="0">
            <a:gsLst>
              <a:gs pos="0">
                <a:srgbClr val="c0e5e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2637000"/>
            <a:ext cx="1873080" cy="1728720"/>
          </a:xfrm>
          <a:prstGeom prst="ellipse">
            <a:avLst/>
          </a:prstGeom>
          <a:gradFill rotWithShape="0">
            <a:gsLst>
              <a:gs pos="0">
                <a:srgbClr val="e5f2f3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4508640"/>
            <a:ext cx="1871640" cy="1800000"/>
          </a:xfrm>
          <a:prstGeom prst="ellipse">
            <a:avLst/>
          </a:prstGeom>
          <a:gradFill rotWithShape="0">
            <a:gsLst>
              <a:gs pos="0">
                <a:srgbClr val="cccce5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3933720"/>
            <a:ext cx="1779840" cy="18003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88000" y="1700280"/>
            <a:ext cx="1751040" cy="1752480"/>
          </a:xfrm>
          <a:prstGeom prst="ellipse">
            <a:avLst/>
          </a:prstGeom>
          <a:gradFill rotWithShape="0">
            <a:gsLst>
              <a:gs pos="0">
                <a:srgbClr val="e5f1c0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70640" y="3068640"/>
            <a:ext cx="162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Verdana"/>
              </a:rPr>
              <a:t>Projet valid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Verdana"/>
              </a:rPr>
              <a:t>Rejeté  ou </a:t>
            </a:r>
            <a:br>
              <a:rPr sz="1800"/>
            </a:br>
            <a:r>
              <a:rPr b="1" lang="fr-FR" sz="1800" spc="-1" strike="noStrike">
                <a:solidFill>
                  <a:srgbClr val="333399"/>
                </a:solidFill>
                <a:latin typeface="Verdana"/>
              </a:rPr>
              <a:t>rediscu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84120" y="191628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Verdana"/>
              </a:rPr>
              <a:t>Proj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05640" y="23493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Verdana"/>
              </a:rPr>
              <a:t>Com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422100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a3fb"/>
                </a:solidFill>
                <a:latin typeface="Verdana"/>
              </a:rPr>
              <a:t>Ord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a3fb"/>
                </a:solidFill>
                <a:latin typeface="Verdana"/>
              </a:rPr>
              <a:t>du j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a3fb"/>
                </a:solidFill>
                <a:latin typeface="Verdana"/>
              </a:rPr>
              <a:t>Conv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11280" y="5013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Verdana"/>
              </a:rPr>
              <a:t>Sé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Verdana"/>
              </a:rPr>
              <a:t>et 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1628640"/>
            <a:ext cx="1511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12" idx="0"/>
          </p:cNvCxnSpPr>
          <p:nvPr/>
        </p:nvCxnSpPr>
        <p:spPr>
          <a:xfrm flipH="1">
            <a:off x="178560" y="1628280"/>
            <a:ext cx="201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237960" y="119700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épôt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879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H="1">
            <a:off x="1042560" y="4221000"/>
            <a:ext cx="360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250920" y="4869000"/>
            <a:ext cx="1728720" cy="151272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000000"/>
              </a:gs>
              <a:gs pos="100000">
                <a:srgbClr val="a9a9a9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170120" y="4149720"/>
            <a:ext cx="1973880" cy="1939680"/>
            <a:chOff x="7170120" y="4149720"/>
            <a:chExt cx="1973880" cy="1939680"/>
          </a:xfrm>
        </p:grpSpPr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8077320" y="4662360"/>
              <a:ext cx="10666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170120" y="4149720"/>
              <a:ext cx="1179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333399"/>
                  </a:solidFill>
                  <a:latin typeface="Arial"/>
                </a:rPr>
                <a:t>Règ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333399"/>
                  </a:solidFill>
                  <a:latin typeface="Arial"/>
                </a:rPr>
                <a:t>Méti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4"/>
            <a:stretch/>
          </p:blipFill>
          <p:spPr>
            <a:xfrm>
              <a:off x="7467480" y="502272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rebuchet MS"/>
              </a:rPr>
              <a:t>Dépôt du Proje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038320" y="3414600"/>
            <a:ext cx="876240" cy="895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435640" y="3429000"/>
            <a:ext cx="2952720" cy="287964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2879640"/>
              <a:gd name="textAreaBottom" fmla="*/ 288000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171746"/>
              </a:gs>
              <a:gs pos="100000">
                <a:srgbClr val="333399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59280" y="3429000"/>
            <a:ext cx="2881080" cy="2879640"/>
          </a:xfrm>
          <a:custGeom>
            <a:avLst/>
            <a:gdLst>
              <a:gd name="textAreaLeft" fmla="*/ 0 w 2881080"/>
              <a:gd name="textAreaRight" fmla="*/ 2881440 w 2881080"/>
              <a:gd name="textAreaTop" fmla="*/ 0 h 2879640"/>
              <a:gd name="textAreaBottom" fmla="*/ 288000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3429000"/>
            <a:ext cx="3143160" cy="2879640"/>
          </a:xfrm>
          <a:custGeom>
            <a:avLst/>
            <a:gdLst>
              <a:gd name="textAreaLeft" fmla="*/ 0 w 3143160"/>
              <a:gd name="textAreaRight" fmla="*/ 3143520 w 3143160"/>
              <a:gd name="textAreaTop" fmla="*/ 0 h 2879640"/>
              <a:gd name="textAreaBottom" fmla="*/ 288000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c0a3fb"/>
              </a:gs>
              <a:gs pos="100000">
                <a:srgbClr val="584b73"/>
              </a:gs>
            </a:gsLst>
            <a:lin ang="54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1835280" y="1196280"/>
            <a:ext cx="5759280" cy="215892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000000"/>
              </a:gs>
              <a:gs pos="100000">
                <a:srgbClr val="a9a9a9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1484280"/>
            <a:ext cx="2087640" cy="990720"/>
          </a:xfrm>
          <a:prstGeom prst="roundRect">
            <a:avLst>
              <a:gd name="adj" fmla="val 50000"/>
            </a:avLst>
          </a:prstGeom>
          <a:solidFill>
            <a:srgbClr val="ffff99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3789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3933720"/>
            <a:ext cx="2303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réatio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l’ordr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u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J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3860640"/>
            <a:ext cx="21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vocation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es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mem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m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24360" y="3860640"/>
            <a:ext cx="2519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es projet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rédaction 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ocès Verb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86000" cy="879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619280" y="5229360"/>
            <a:ext cx="876240" cy="895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516720" y="5316480"/>
            <a:ext cx="996840" cy="1541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4140360" y="5373720"/>
            <a:ext cx="8301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rebuchet MS"/>
              </a:rPr>
              <a:t>Les avantages de Papyru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"/>
          <p:cNvSpPr/>
          <p:nvPr/>
        </p:nvSpPr>
        <p:spPr>
          <a:xfrm>
            <a:off x="6311880" y="275904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59400" y="275904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275904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54080" y="275904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12040" y="1265040"/>
            <a:ext cx="6437160" cy="1387800"/>
            <a:chOff x="1112040" y="1265040"/>
            <a:chExt cx="6437160" cy="1387800"/>
          </a:xfrm>
        </p:grpSpPr>
        <p:sp>
          <p:nvSpPr>
            <p:cNvPr id="144" name=""/>
            <p:cNvSpPr/>
            <p:nvPr/>
          </p:nvSpPr>
          <p:spPr>
            <a:xfrm rot="3418800">
              <a:off x="1322640" y="148968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2286360" y="1661760"/>
              <a:ext cx="931680" cy="131760"/>
              <a:chOff x="2286360" y="1661760"/>
              <a:chExt cx="931680" cy="131760"/>
            </a:xfrm>
          </p:grpSpPr>
          <p:sp>
            <p:nvSpPr>
              <p:cNvPr id="146" name=""/>
              <p:cNvSpPr/>
              <p:nvPr/>
            </p:nvSpPr>
            <p:spPr>
              <a:xfrm>
                <a:off x="2286360" y="166176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375640" y="166284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076920" y="166392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152880" y="170496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 rot="3418800">
              <a:off x="3043800" y="142380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007880" y="1661760"/>
              <a:ext cx="931680" cy="131760"/>
              <a:chOff x="4007880" y="1661760"/>
              <a:chExt cx="931680" cy="131760"/>
            </a:xfrm>
          </p:grpSpPr>
          <p:sp>
            <p:nvSpPr>
              <p:cNvPr id="152" name=""/>
              <p:cNvSpPr/>
              <p:nvPr/>
            </p:nvSpPr>
            <p:spPr>
              <a:xfrm>
                <a:off x="4007880" y="166176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97160" y="166284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98440" y="166392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874400" y="170496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 rot="3418800">
              <a:off x="4693320" y="142380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729040" y="1661760"/>
              <a:ext cx="1218240" cy="131760"/>
              <a:chOff x="5729040" y="1661760"/>
              <a:chExt cx="1218240" cy="131760"/>
            </a:xfrm>
          </p:grpSpPr>
          <p:sp>
            <p:nvSpPr>
              <p:cNvPr id="158" name=""/>
              <p:cNvSpPr/>
              <p:nvPr/>
            </p:nvSpPr>
            <p:spPr>
              <a:xfrm>
                <a:off x="5729040" y="166176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845680" y="166284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762600" y="166392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861960" y="170496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rot="3418800">
              <a:off x="6414480" y="142380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333440" y="17002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ac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60720" y="1700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Rapid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5080" y="170028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Traç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17800" y="17002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Q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8920" y="3063960"/>
            <a:ext cx="122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 interface trè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viv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43280" y="3068640"/>
            <a:ext cx="165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to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tâch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ng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stidie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16360" y="3068640"/>
            <a:ext cx="149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trou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à t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ment un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soci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à un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43640" y="2997360"/>
            <a:ext cx="151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fa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uivi 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rou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ffér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u proces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056200" y="5002200"/>
            <a:ext cx="4087800" cy="1855440"/>
            <a:chOff x="5056200" y="5002200"/>
            <a:chExt cx="4087800" cy="1855440"/>
          </a:xfrm>
        </p:grpSpPr>
        <p:cxnSp>
          <p:nvCxnSpPr>
            <p:cNvPr id="172" name=""/>
            <p:cNvCxnSpPr/>
            <p:nvPr/>
          </p:nvCxnSpPr>
          <p:spPr>
            <a:xfrm flipV="1">
              <a:off x="7011720" y="6078240"/>
              <a:ext cx="951480" cy="342000"/>
            </a:xfrm>
            <a:prstGeom prst="bentConnector3">
              <a:avLst>
                <a:gd name="adj1" fmla="val 49886"/>
              </a:avLst>
            </a:prstGeom>
            <a:ln w="381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</p:cxnSp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7829640" y="5002200"/>
              <a:ext cx="1314360" cy="164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" name=""/>
            <p:cNvGrpSpPr/>
            <p:nvPr/>
          </p:nvGrpSpPr>
          <p:grpSpPr>
            <a:xfrm>
              <a:off x="5056200" y="5141880"/>
              <a:ext cx="2289240" cy="1715760"/>
              <a:chOff x="5056200" y="5141880"/>
              <a:chExt cx="2289240" cy="1715760"/>
            </a:xfrm>
          </p:grpSpPr>
          <p:pic>
            <p:nvPicPr>
              <p:cNvPr id="17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56200" y="5141880"/>
                <a:ext cx="1021320" cy="97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686920" y="5519880"/>
                <a:ext cx="1021320" cy="97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324120" y="5882760"/>
                <a:ext cx="1021320" cy="974880"/>
              </a:xfrm>
              <a:prstGeom prst="rect">
                <a:avLst/>
              </a:prstGeom>
              <a:ln w="0">
                <a:noFill/>
              </a:ln>
            </p:spPr>
          </p:pic>
        </p:grpSp>
        <p:cxnSp>
          <p:nvCxnSpPr>
            <p:cNvPr id="178" name=""/>
            <p:cNvCxnSpPr/>
            <p:nvPr/>
          </p:nvCxnSpPr>
          <p:spPr>
            <a:xfrm>
              <a:off x="6076800" y="5351760"/>
              <a:ext cx="1797840" cy="235440"/>
            </a:xfrm>
            <a:prstGeom prst="bentConnector3">
              <a:avLst>
                <a:gd name="adj1" fmla="val 49989"/>
              </a:avLst>
            </a:prstGeom>
            <a:ln w="381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9" name=""/>
            <p:cNvCxnSpPr/>
            <p:nvPr/>
          </p:nvCxnSpPr>
          <p:spPr>
            <a:xfrm>
              <a:off x="6584760" y="5720040"/>
              <a:ext cx="1377000" cy="180000"/>
            </a:xfrm>
            <a:prstGeom prst="bentConnector3">
              <a:avLst>
                <a:gd name="adj1" fmla="val 49921"/>
              </a:avLst>
            </a:prstGeom>
            <a:ln w="381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</p:cxnSp>
      </p:grpSp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28600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4T09:57:58Z</dcterms:created>
  <dc:creator>PB</dc:creator>
  <dc:description/>
  <cp:keywords/>
  <dc:language>en-US</dc:language>
  <cp:lastModifiedBy>Patrick</cp:lastModifiedBy>
  <dcterms:modified xsi:type="dcterms:W3CDTF">2010-03-14T18:36:04Z</dcterms:modified>
  <cp:revision>17</cp:revision>
  <dc:subject/>
  <dc:title>Cliquer pour ajouter un tit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51036</vt:lpwstr>
  </property>
</Properties>
</file>